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5F4-B00C-4ABC-A0B6-593B8C7B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190-6723-44F7-B6C8-F38CD2D2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2E3-692C-47D1-83B8-9F8576E3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A3C-96D0-4519-9591-AF07D6A6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C80-6244-4D07-9F50-55DC4E6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94F-6192-44C9-8EC6-BF8E710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324-A3BD-4BCC-A094-A287044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DE8-386A-42F9-9A30-2A475E3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53D-3B08-4B75-AEBD-3CFFFF7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8AE-159D-47B1-9BF7-034BD13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CB3-4359-4CA2-ABA6-8011CEC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98D-9F11-4715-A3DF-AC1EBEF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49F-B454-498F-BA18-CFF34E99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image" Target="../media/image1.png"/><Relationship Id="rId7" Type="http://schemas.openxmlformats.org/officeDocument/2006/relationships/slide" Target=""/><Relationship Id="rId8" Type="http://schemas.openxmlformats.org/officeDocument/2006/relationships/image" Target="../media/image1.png"/><Relationship Id="rId9" Type="http://schemas.openxmlformats.org/officeDocument/2006/relationships/slide" Target=""/><Relationship Id="rId10" Type="http://schemas.openxmlformats.org/officeDocument/2006/relationships/image" Target="../media/image1.png"/><Relationship Id="rId11" Type="http://schemas.openxmlformats.org/officeDocument/2006/relationships/slide" Target=""/><Relationship Id="rId12" Type="http://schemas.openxmlformats.org/officeDocument/2006/relationships/image" Target="../media/image1.png"/><Relationship Id="rId13" Type="http://schemas.openxmlformats.org/officeDocument/2006/relationships/slide" Target=""/><Relationship Id="rId14" Type="http://schemas.openxmlformats.org/officeDocument/2006/relationships/image" Target="../media/image1.png"/><Relationship Id="rId15" Type="http://schemas.openxmlformats.org/officeDocument/2006/relationships/slide" Target="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82840" y="2214720"/>
            <a:ext cx="850680" cy="806400"/>
            <a:chOff x="1482840" y="2214720"/>
            <a:chExt cx="850680" cy="806400"/>
          </a:xfrm>
        </p:grpSpPr>
        <p:grpSp>
          <p:nvGrpSpPr>
            <p:cNvPr id="42" name=""/>
            <p:cNvGrpSpPr/>
            <p:nvPr/>
          </p:nvGrpSpPr>
          <p:grpSpPr>
            <a:xfrm>
              <a:off x="1482840" y="2214720"/>
              <a:ext cx="850680" cy="806400"/>
              <a:chOff x="1482840" y="2214720"/>
              <a:chExt cx="850680" cy="806400"/>
            </a:xfrm>
          </p:grpSpPr>
          <p:sp>
            <p:nvSpPr>
              <p:cNvPr id="43" name=""/>
              <p:cNvSpPr/>
              <p:nvPr/>
            </p:nvSpPr>
            <p:spPr>
              <a:xfrm>
                <a:off x="1504800" y="2238480"/>
                <a:ext cx="814680" cy="782640"/>
              </a:xfrm>
              <a:custGeom>
                <a:avLst/>
                <a:gdLst/>
                <a:ahLst/>
                <a:rect l="l" t="t" r="r" b="b"/>
                <a:pathLst>
                  <a:path w="513" h="493">
                    <a:moveTo>
                      <a:pt x="0" y="0"/>
                    </a:moveTo>
                    <a:lnTo>
                      <a:pt x="512" y="0"/>
                    </a:lnTo>
                    <a:lnTo>
                      <a:pt x="512" y="492"/>
                    </a:lnTo>
                    <a:lnTo>
                      <a:pt x="0" y="49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82840" y="2214720"/>
                <a:ext cx="85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10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504800" y="284796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1486080" y="2200320"/>
            <a:ext cx="2516040" cy="2297160"/>
          </a:xfrm>
          <a:custGeom>
            <a:avLst/>
            <a:gdLst/>
            <a:ahLst/>
            <a:rect l="l" t="t" r="r" b="b"/>
            <a:pathLst>
              <a:path w="1585" h="1447">
                <a:moveTo>
                  <a:pt x="0" y="0"/>
                </a:moveTo>
                <a:lnTo>
                  <a:pt x="1584" y="0"/>
                </a:lnTo>
                <a:lnTo>
                  <a:pt x="1584" y="1446"/>
                </a:lnTo>
                <a:lnTo>
                  <a:pt x="0" y="14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6080" y="942840"/>
            <a:ext cx="2541240" cy="1227240"/>
          </a:xfrm>
          <a:custGeom>
            <a:avLst/>
            <a:gdLst/>
            <a:ahLst/>
            <a:rect l="l" t="t" r="r" b="b"/>
            <a:pathLst>
              <a:path w="1601" h="773">
                <a:moveTo>
                  <a:pt x="1600" y="771"/>
                </a:moveTo>
                <a:lnTo>
                  <a:pt x="0" y="772"/>
                </a:lnTo>
                <a:lnTo>
                  <a:pt x="800" y="0"/>
                </a:lnTo>
                <a:lnTo>
                  <a:pt x="1600" y="77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94000" y="3683160"/>
            <a:ext cx="1233360" cy="916920"/>
            <a:chOff x="1494000" y="3683160"/>
            <a:chExt cx="1233360" cy="916920"/>
          </a:xfrm>
        </p:grpSpPr>
        <p:grpSp>
          <p:nvGrpSpPr>
            <p:cNvPr id="49" name=""/>
            <p:cNvGrpSpPr/>
            <p:nvPr/>
          </p:nvGrpSpPr>
          <p:grpSpPr>
            <a:xfrm>
              <a:off x="1494000" y="3683160"/>
              <a:ext cx="1233360" cy="916920"/>
              <a:chOff x="1494000" y="3683160"/>
              <a:chExt cx="1233360" cy="916920"/>
            </a:xfrm>
          </p:grpSpPr>
          <p:sp>
            <p:nvSpPr>
              <p:cNvPr id="50" name=""/>
              <p:cNvSpPr/>
              <p:nvPr/>
            </p:nvSpPr>
            <p:spPr>
              <a:xfrm>
                <a:off x="1495440" y="3705120"/>
                <a:ext cx="1231920" cy="812880"/>
              </a:xfrm>
              <a:custGeom>
                <a:avLst/>
                <a:gdLst/>
                <a:ahLst/>
                <a:rect l="l" t="t" r="r" b="b"/>
                <a:pathLst>
                  <a:path w="776" h="512">
                    <a:moveTo>
                      <a:pt x="0" y="0"/>
                    </a:moveTo>
                    <a:lnTo>
                      <a:pt x="775" y="0"/>
                    </a:lnTo>
                    <a:lnTo>
                      <a:pt x="775" y="511"/>
                    </a:lnTo>
                    <a:lnTo>
                      <a:pt x="0" y="5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94000" y="3683160"/>
                <a:ext cx="122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tio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95440" y="43448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3151080" y="2916360"/>
            <a:ext cx="882720" cy="761760"/>
            <a:chOff x="3151080" y="2916360"/>
            <a:chExt cx="882720" cy="761760"/>
          </a:xfrm>
        </p:grpSpPr>
        <p:grpSp>
          <p:nvGrpSpPr>
            <p:cNvPr id="54" name=""/>
            <p:cNvGrpSpPr/>
            <p:nvPr/>
          </p:nvGrpSpPr>
          <p:grpSpPr>
            <a:xfrm>
              <a:off x="3151080" y="2916360"/>
              <a:ext cx="882720" cy="761760"/>
              <a:chOff x="3151080" y="2916360"/>
              <a:chExt cx="882720" cy="761760"/>
            </a:xfrm>
          </p:grpSpPr>
          <p:sp>
            <p:nvSpPr>
              <p:cNvPr id="55" name=""/>
              <p:cNvSpPr/>
              <p:nvPr/>
            </p:nvSpPr>
            <p:spPr>
              <a:xfrm>
                <a:off x="3171960" y="2943360"/>
                <a:ext cx="850680" cy="734760"/>
              </a:xfrm>
              <a:custGeom>
                <a:avLst/>
                <a:gdLst/>
                <a:ahLst/>
                <a:rect l="l" t="t" r="r" b="b"/>
                <a:pathLst>
                  <a:path w="536" h="463">
                    <a:moveTo>
                      <a:pt x="0" y="0"/>
                    </a:moveTo>
                    <a:lnTo>
                      <a:pt x="535" y="0"/>
                    </a:lnTo>
                    <a:lnTo>
                      <a:pt x="535" y="462"/>
                    </a:lnTo>
                    <a:lnTo>
                      <a:pt x="0" y="4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51080" y="2916360"/>
                <a:ext cx="882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re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171960" y="35053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320920" y="2916360"/>
            <a:ext cx="857160" cy="772920"/>
            <a:chOff x="2320920" y="2916360"/>
            <a:chExt cx="857160" cy="772920"/>
          </a:xfrm>
        </p:grpSpPr>
        <p:grpSp>
          <p:nvGrpSpPr>
            <p:cNvPr id="59" name=""/>
            <p:cNvGrpSpPr/>
            <p:nvPr/>
          </p:nvGrpSpPr>
          <p:grpSpPr>
            <a:xfrm>
              <a:off x="2320920" y="2916360"/>
              <a:ext cx="857160" cy="772920"/>
              <a:chOff x="2320920" y="2916360"/>
              <a:chExt cx="857160" cy="772920"/>
            </a:xfrm>
          </p:grpSpPr>
          <p:sp>
            <p:nvSpPr>
              <p:cNvPr id="60" name=""/>
              <p:cNvSpPr/>
              <p:nvPr/>
            </p:nvSpPr>
            <p:spPr>
              <a:xfrm>
                <a:off x="2343240" y="2943360"/>
                <a:ext cx="822240" cy="745920"/>
              </a:xfrm>
              <a:custGeom>
                <a:avLst/>
                <a:gdLst/>
                <a:ahLst/>
                <a:rect l="l" t="t" r="r" b="b"/>
                <a:pathLst>
                  <a:path w="518" h="470">
                    <a:moveTo>
                      <a:pt x="0" y="0"/>
                    </a:moveTo>
                    <a:lnTo>
                      <a:pt x="517" y="0"/>
                    </a:lnTo>
                    <a:lnTo>
                      <a:pt x="517" y="469"/>
                    </a:lnTo>
                    <a:lnTo>
                      <a:pt x="0" y="4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20920" y="2916360"/>
                <a:ext cx="857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ee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343240" y="35164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1490760" y="2916360"/>
            <a:ext cx="839520" cy="772920"/>
            <a:chOff x="1490760" y="2916360"/>
            <a:chExt cx="839520" cy="772920"/>
          </a:xfrm>
        </p:grpSpPr>
        <p:grpSp>
          <p:nvGrpSpPr>
            <p:cNvPr id="64" name=""/>
            <p:cNvGrpSpPr/>
            <p:nvPr/>
          </p:nvGrpSpPr>
          <p:grpSpPr>
            <a:xfrm>
              <a:off x="1490760" y="2916360"/>
              <a:ext cx="839520" cy="772920"/>
              <a:chOff x="1490760" y="2916360"/>
              <a:chExt cx="839520" cy="772920"/>
            </a:xfrm>
          </p:grpSpPr>
          <p:sp>
            <p:nvSpPr>
              <p:cNvPr id="65" name=""/>
              <p:cNvSpPr/>
              <p:nvPr/>
            </p:nvSpPr>
            <p:spPr>
              <a:xfrm>
                <a:off x="1514520" y="2943360"/>
                <a:ext cx="803160" cy="745920"/>
              </a:xfrm>
              <a:custGeom>
                <a:avLst/>
                <a:gdLst/>
                <a:ahLst/>
                <a:rect l="l" t="t" r="r" b="b"/>
                <a:pathLst>
                  <a:path w="506" h="470">
                    <a:moveTo>
                      <a:pt x="0" y="0"/>
                    </a:moveTo>
                    <a:lnTo>
                      <a:pt x="505" y="0"/>
                    </a:lnTo>
                    <a:lnTo>
                      <a:pt x="505" y="469"/>
                    </a:lnTo>
                    <a:lnTo>
                      <a:pt x="0" y="4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eeee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90760" y="2916360"/>
                <a:ext cx="83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lu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514520" y="35164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3149640" y="2208240"/>
            <a:ext cx="865080" cy="709560"/>
            <a:chOff x="3149640" y="2208240"/>
            <a:chExt cx="865080" cy="709560"/>
          </a:xfrm>
        </p:grpSpPr>
        <p:grpSp>
          <p:nvGrpSpPr>
            <p:cNvPr id="69" name=""/>
            <p:cNvGrpSpPr/>
            <p:nvPr/>
          </p:nvGrpSpPr>
          <p:grpSpPr>
            <a:xfrm>
              <a:off x="3149640" y="2208240"/>
              <a:ext cx="865080" cy="709560"/>
              <a:chOff x="3149640" y="2208240"/>
              <a:chExt cx="865080" cy="709560"/>
            </a:xfrm>
          </p:grpSpPr>
          <p:sp>
            <p:nvSpPr>
              <p:cNvPr id="70" name=""/>
              <p:cNvSpPr/>
              <p:nvPr/>
            </p:nvSpPr>
            <p:spPr>
              <a:xfrm>
                <a:off x="3171960" y="2238480"/>
                <a:ext cx="831600" cy="679320"/>
              </a:xfrm>
              <a:custGeom>
                <a:avLst/>
                <a:gdLst/>
                <a:ahLst/>
                <a:rect l="l" t="t" r="r" b="b"/>
                <a:pathLst>
                  <a:path w="524" h="428">
                    <a:moveTo>
                      <a:pt x="0" y="0"/>
                    </a:moveTo>
                    <a:lnTo>
                      <a:pt x="523" y="0"/>
                    </a:lnTo>
                    <a:lnTo>
                      <a:pt x="523" y="427"/>
                    </a:lnTo>
                    <a:lnTo>
                      <a:pt x="0" y="42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49640" y="2208240"/>
                <a:ext cx="86508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171960" y="27446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2320920" y="2209680"/>
            <a:ext cx="847800" cy="736560"/>
            <a:chOff x="2320920" y="2209680"/>
            <a:chExt cx="847800" cy="736560"/>
          </a:xfrm>
        </p:grpSpPr>
        <p:grpSp>
          <p:nvGrpSpPr>
            <p:cNvPr id="74" name=""/>
            <p:cNvGrpSpPr/>
            <p:nvPr/>
          </p:nvGrpSpPr>
          <p:grpSpPr>
            <a:xfrm>
              <a:off x="2320920" y="2209680"/>
              <a:ext cx="847800" cy="736560"/>
              <a:chOff x="2320920" y="2209680"/>
              <a:chExt cx="847800" cy="736560"/>
            </a:xfrm>
          </p:grpSpPr>
          <p:sp>
            <p:nvSpPr>
              <p:cNvPr id="75" name=""/>
              <p:cNvSpPr/>
              <p:nvPr/>
            </p:nvSpPr>
            <p:spPr>
              <a:xfrm>
                <a:off x="2343240" y="2238480"/>
                <a:ext cx="812880" cy="707760"/>
              </a:xfrm>
              <a:custGeom>
                <a:avLst/>
                <a:gdLst/>
                <a:ahLst/>
                <a:rect l="l" t="t" r="r" b="b"/>
                <a:pathLst>
                  <a:path w="512" h="446">
                    <a:moveTo>
                      <a:pt x="0" y="0"/>
                    </a:moveTo>
                    <a:lnTo>
                      <a:pt x="511" y="0"/>
                    </a:lnTo>
                    <a:lnTo>
                      <a:pt x="511" y="445"/>
                    </a:lnTo>
                    <a:lnTo>
                      <a:pt x="0" y="44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20920" y="2209680"/>
                <a:ext cx="847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343240" y="27734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741760" y="3683160"/>
            <a:ext cx="1252440" cy="834840"/>
            <a:chOff x="2741760" y="3683160"/>
            <a:chExt cx="1252440" cy="834840"/>
          </a:xfrm>
        </p:grpSpPr>
        <p:grpSp>
          <p:nvGrpSpPr>
            <p:cNvPr id="79" name=""/>
            <p:cNvGrpSpPr/>
            <p:nvPr/>
          </p:nvGrpSpPr>
          <p:grpSpPr>
            <a:xfrm>
              <a:off x="2741760" y="3683160"/>
              <a:ext cx="1252440" cy="834840"/>
              <a:chOff x="2741760" y="3683160"/>
              <a:chExt cx="1252440" cy="834840"/>
            </a:xfrm>
          </p:grpSpPr>
          <p:sp>
            <p:nvSpPr>
              <p:cNvPr id="80" name=""/>
              <p:cNvSpPr/>
              <p:nvPr/>
            </p:nvSpPr>
            <p:spPr>
              <a:xfrm>
                <a:off x="2743200" y="3705120"/>
                <a:ext cx="1251000" cy="812880"/>
              </a:xfrm>
              <a:custGeom>
                <a:avLst/>
                <a:gdLst/>
                <a:ahLst/>
                <a:rect l="l" t="t" r="r" b="b"/>
                <a:pathLst>
                  <a:path w="788" h="512">
                    <a:moveTo>
                      <a:pt x="0" y="0"/>
                    </a:moveTo>
                    <a:lnTo>
                      <a:pt x="787" y="0"/>
                    </a:lnTo>
                    <a:lnTo>
                      <a:pt x="787" y="511"/>
                    </a:lnTo>
                    <a:lnTo>
                      <a:pt x="0" y="5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41760" y="3683160"/>
                <a:ext cx="1239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tio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2743200" y="43448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241200"/>
            <a:ext cx="53085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the </a:t>
            </a:r>
            <a:r>
              <a:rPr b="0" lang="en-US" sz="2600" spc="-1" strike="noStrike">
                <a:solidFill>
                  <a:srgbClr val="afeeee"/>
                </a:solidFill>
                <a:latin typeface="Times New Roman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Open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 Go to Smithsonian.com and find appropriate pictures or artifacts for this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 Using copy/paste, create a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You may add text to the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 You may use Paintbrush and draw your own pictures to add to the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94320" y="4137120"/>
            <a:ext cx="965160" cy="893520"/>
            <a:chOff x="6394320" y="4137120"/>
            <a:chExt cx="965160" cy="893520"/>
          </a:xfrm>
        </p:grpSpPr>
        <p:grpSp>
          <p:nvGrpSpPr>
            <p:cNvPr id="85" name=""/>
            <p:cNvGrpSpPr/>
            <p:nvPr/>
          </p:nvGrpSpPr>
          <p:grpSpPr>
            <a:xfrm>
              <a:off x="6394320" y="4137120"/>
              <a:ext cx="965160" cy="893520"/>
              <a:chOff x="6394320" y="4137120"/>
              <a:chExt cx="965160" cy="893520"/>
            </a:xfrm>
          </p:grpSpPr>
          <p:sp>
            <p:nvSpPr>
              <p:cNvPr id="86" name=""/>
              <p:cNvSpPr/>
              <p:nvPr/>
            </p:nvSpPr>
            <p:spPr>
              <a:xfrm>
                <a:off x="6458040" y="4200480"/>
                <a:ext cx="83952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94320" y="413712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458040" y="48578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3600" y="1041480"/>
            <a:ext cx="5899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</a:t>
            </a: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gree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werpoint / 4-6 slides / text &amp;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03920" y="3803760"/>
            <a:ext cx="965160" cy="893520"/>
            <a:chOff x="5803920" y="3803760"/>
            <a:chExt cx="965160" cy="893520"/>
          </a:xfrm>
        </p:grpSpPr>
        <p:grpSp>
          <p:nvGrpSpPr>
            <p:cNvPr id="91" name=""/>
            <p:cNvGrpSpPr/>
            <p:nvPr/>
          </p:nvGrpSpPr>
          <p:grpSpPr>
            <a:xfrm>
              <a:off x="5803920" y="3803760"/>
              <a:ext cx="965160" cy="893520"/>
              <a:chOff x="5803920" y="3803760"/>
              <a:chExt cx="965160" cy="893520"/>
            </a:xfrm>
          </p:grpSpPr>
          <p:sp>
            <p:nvSpPr>
              <p:cNvPr id="92" name=""/>
              <p:cNvSpPr/>
              <p:nvPr/>
            </p:nvSpPr>
            <p:spPr>
              <a:xfrm>
                <a:off x="5867280" y="386712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03920" y="380376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867280" y="452448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5720" y="831960"/>
            <a:ext cx="52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2-15 Interview questions/ans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51320" y="3727440"/>
            <a:ext cx="965160" cy="893880"/>
            <a:chOff x="5251320" y="3727440"/>
            <a:chExt cx="965160" cy="893880"/>
          </a:xfrm>
        </p:grpSpPr>
        <p:grpSp>
          <p:nvGrpSpPr>
            <p:cNvPr id="97" name=""/>
            <p:cNvGrpSpPr/>
            <p:nvPr/>
          </p:nvGrpSpPr>
          <p:grpSpPr>
            <a:xfrm>
              <a:off x="5251320" y="3727440"/>
              <a:ext cx="965160" cy="893880"/>
              <a:chOff x="5251320" y="3727440"/>
              <a:chExt cx="965160" cy="893880"/>
            </a:xfrm>
          </p:grpSpPr>
          <p:sp>
            <p:nvSpPr>
              <p:cNvPr id="98" name=""/>
              <p:cNvSpPr/>
              <p:nvPr/>
            </p:nvSpPr>
            <p:spPr>
              <a:xfrm>
                <a:off x="5315040" y="3790800"/>
                <a:ext cx="839520" cy="83052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51320" y="372744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315040" y="444816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6440" y="803160"/>
            <a:ext cx="186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10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18200" y="3403440"/>
            <a:ext cx="965160" cy="893880"/>
            <a:chOff x="6118200" y="3403440"/>
            <a:chExt cx="965160" cy="893880"/>
          </a:xfrm>
        </p:grpSpPr>
        <p:grpSp>
          <p:nvGrpSpPr>
            <p:cNvPr id="103" name=""/>
            <p:cNvGrpSpPr/>
            <p:nvPr/>
          </p:nvGrpSpPr>
          <p:grpSpPr>
            <a:xfrm>
              <a:off x="6118200" y="3403440"/>
              <a:ext cx="965160" cy="893880"/>
              <a:chOff x="6118200" y="3403440"/>
              <a:chExt cx="965160" cy="893880"/>
            </a:xfrm>
          </p:grpSpPr>
          <p:sp>
            <p:nvSpPr>
              <p:cNvPr id="104" name=""/>
              <p:cNvSpPr/>
              <p:nvPr/>
            </p:nvSpPr>
            <p:spPr>
              <a:xfrm>
                <a:off x="6181560" y="346716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18200" y="340344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6181560" y="4124160"/>
              <a:ext cx="17172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1812960" y="1517760"/>
            <a:ext cx="43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nited Streaming Ass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atch Mov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nt O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5232240" y="2727360"/>
            <a:ext cx="965520" cy="893880"/>
            <a:chOff x="5232240" y="2727360"/>
            <a:chExt cx="965520" cy="893880"/>
          </a:xfrm>
        </p:grpSpPr>
        <p:grpSp>
          <p:nvGrpSpPr>
            <p:cNvPr id="109" name=""/>
            <p:cNvGrpSpPr/>
            <p:nvPr/>
          </p:nvGrpSpPr>
          <p:grpSpPr>
            <a:xfrm>
              <a:off x="5232240" y="2727360"/>
              <a:ext cx="965520" cy="893880"/>
              <a:chOff x="5232240" y="2727360"/>
              <a:chExt cx="965520" cy="893880"/>
            </a:xfrm>
          </p:grpSpPr>
          <p:sp>
            <p:nvSpPr>
              <p:cNvPr id="110" name=""/>
              <p:cNvSpPr/>
              <p:nvPr/>
            </p:nvSpPr>
            <p:spPr>
              <a:xfrm>
                <a:off x="5295960" y="2790720"/>
                <a:ext cx="839880" cy="83052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32240" y="2727360"/>
                <a:ext cx="96552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295960" y="34480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346040" y="888840"/>
            <a:ext cx="273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reate Timel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603760" y="3470400"/>
            <a:ext cx="965160" cy="893520"/>
            <a:chOff x="5603760" y="3470400"/>
            <a:chExt cx="965160" cy="893520"/>
          </a:xfrm>
        </p:grpSpPr>
        <p:grpSp>
          <p:nvGrpSpPr>
            <p:cNvPr id="115" name=""/>
            <p:cNvGrpSpPr/>
            <p:nvPr/>
          </p:nvGrpSpPr>
          <p:grpSpPr>
            <a:xfrm>
              <a:off x="5603760" y="3470400"/>
              <a:ext cx="965160" cy="893520"/>
              <a:chOff x="5603760" y="3470400"/>
              <a:chExt cx="965160" cy="893520"/>
            </a:xfrm>
          </p:grpSpPr>
          <p:sp>
            <p:nvSpPr>
              <p:cNvPr id="116" name=""/>
              <p:cNvSpPr/>
              <p:nvPr/>
            </p:nvSpPr>
            <p:spPr>
              <a:xfrm>
                <a:off x="5667480" y="3533760"/>
                <a:ext cx="83952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3760" y="347040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667480" y="41911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1336680" y="946080"/>
            <a:ext cx="589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piration Project: Point of 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hoose 2 characters and create memo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ntry--you may even choose the sui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oice for each charac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31880" y="727200"/>
            <a:ext cx="5327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graphic organizer, choose 1 bubble from each main topic and as a note, write 1-2 sentences explaining more det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23040" y="3699000"/>
            <a:ext cx="965160" cy="893520"/>
            <a:chOff x="5423040" y="3699000"/>
            <a:chExt cx="965160" cy="893520"/>
          </a:xfrm>
        </p:grpSpPr>
        <p:grpSp>
          <p:nvGrpSpPr>
            <p:cNvPr id="122" name=""/>
            <p:cNvGrpSpPr/>
            <p:nvPr/>
          </p:nvGrpSpPr>
          <p:grpSpPr>
            <a:xfrm>
              <a:off x="5423040" y="3699000"/>
              <a:ext cx="965160" cy="893520"/>
              <a:chOff x="5423040" y="3699000"/>
              <a:chExt cx="965160" cy="893520"/>
            </a:xfrm>
          </p:grpSpPr>
          <p:sp>
            <p:nvSpPr>
              <p:cNvPr id="123" name=""/>
              <p:cNvSpPr/>
              <p:nvPr/>
            </p:nvSpPr>
            <p:spPr>
              <a:xfrm>
                <a:off x="5486400" y="376236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3040" y="369900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486400" y="44197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600" y="479520"/>
            <a:ext cx="5365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graphic organizer, choose 1 bubble from each main topic and as a note, write a paragraph explaining more detai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89560" y="2860560"/>
            <a:ext cx="965160" cy="893880"/>
            <a:chOff x="4489560" y="2860560"/>
            <a:chExt cx="965160" cy="893880"/>
          </a:xfrm>
        </p:grpSpPr>
        <p:grpSp>
          <p:nvGrpSpPr>
            <p:cNvPr id="128" name=""/>
            <p:cNvGrpSpPr/>
            <p:nvPr/>
          </p:nvGrpSpPr>
          <p:grpSpPr>
            <a:xfrm>
              <a:off x="4489560" y="2860560"/>
              <a:ext cx="965160" cy="893880"/>
              <a:chOff x="4489560" y="2860560"/>
              <a:chExt cx="965160" cy="893880"/>
            </a:xfrm>
          </p:grpSpPr>
          <p:sp>
            <p:nvSpPr>
              <p:cNvPr id="129" name=""/>
              <p:cNvSpPr/>
              <p:nvPr/>
            </p:nvSpPr>
            <p:spPr>
              <a:xfrm>
                <a:off x="4552920" y="292428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89560" y="286056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552920" y="358128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4:01:19Z</dcterms:created>
  <dc:creator>Iris Praid</dc:creator>
  <dc:description/>
  <dc:language>en-US</dc:language>
  <cp:lastModifiedBy>Iris Praid</cp:lastModifiedBy>
  <dcterms:modified xsi:type="dcterms:W3CDTF">2008-01-22T19:08:55Z</dcterms:modified>
  <cp:revision>1</cp:revision>
  <dc:subject/>
  <dc:title>Slide 1</dc:title>
</cp:coreProperties>
</file>